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5DE4-1766-49B7-AD98-E2A4F9D1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B878-9968-438C-919A-BF51C032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BEE3E-CDE8-462B-866E-3CBB90AE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AA457-DCCA-44E8-A7AD-FC6DCFFD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34044-C7EF-48BB-B9AE-EEDFB318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B001B-9616-4484-82BA-21B20947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D1978-A0F5-487A-BA24-E1406C73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15D01-4CA4-4479-B362-399ABB31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515BD-58A9-4067-96CC-8D85BAD7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763B5-56E9-43EE-A649-9AF32F19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0323D-930E-4A64-8A06-0C0DD69E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D70DB-D35B-41FB-A43F-792E56C6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B80E-8203-4CEB-8264-F9F916C6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BEF6E-BFF9-4809-87EE-0433286E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9F5BB-EDF5-4CD8-8750-30F6DA34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132B9-BFB2-4011-9765-A5B7CF46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8A798-22E4-410A-A7AC-E147EA6D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67171-8354-490F-AEF6-04D89D64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4EBFA-ED6E-42DB-B58D-B741C159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B415F-2AA6-4BD0-B95D-D09D8DAE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CE295-E89C-4DC5-BA59-CAF0C4D6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27540-A1BB-4966-B1D5-10A6C2D3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F1E42-C2DF-43A4-A0A4-47B0890F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EFCC-A7CF-41E9-AEF5-0B45DB77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7C56E-8345-4DDA-BEB9-4E2B2CC3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4FBE7-4475-449D-9CCF-8ED7431D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9C13E-E3F5-4B68-8790-5C631884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05243-AB1E-4C22-8649-4E1CCCDB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A4222-77C9-4C42-BA01-4D946E74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F3425-DF20-4F3D-837D-9EC58F04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2312C-EB5C-4887-8C06-A483488F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8F8DB-8762-46D6-AF18-49252EB5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FCB80-4B4C-4DCA-86B9-4C369805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18432-ECA5-4129-A80C-662C2A8D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1086-FECC-487D-B6F4-8A89DE2D1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87CB8-20F1-4C79-AFCD-DC24F3E9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5161A-FCDB-4EEA-A1FC-066881D8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0DDF1-948C-4671-8067-411D3606E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D1945A-9F6D-4BC4-97AC-DFD55913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D497D-A842-4D31-BE2C-4439D7D0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5BE84-492E-4D9A-BDFB-4AC350C3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238C9-6E3F-4A0F-A334-C5EEFDD2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2D296-D2E3-4209-B36D-9727C983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5575E-6D43-45F9-8648-6638684D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BB8C7-2BCB-4415-876B-C67BC1C4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77B2-386D-4337-8663-0944A4CA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0DD41-92C1-41C2-8D02-C164C0F0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A4EEC-E054-467C-BE1B-E646BDA8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94CEF5-B244-4C42-AA29-26F8783C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B3205-FC83-4C56-B669-A878BB98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B8A55-B325-4DE5-AC0B-F41FC706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86E0FD-2765-4215-B542-BA8A7A15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786908-175D-4774-BE8D-499B80D4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A5B540-5016-4665-9DA4-518D7C5F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32CD8F-34C1-4E68-8CBD-5104651A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27B07-E521-4FCE-B96E-D1C2C89B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EDF8-9995-43B2-A3FB-CB5D65C2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42BE2A-F9A2-4A40-BCA9-250F9080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1EBA0C-7BE4-40D1-AFFC-F52191B3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159B2B-3836-4412-8400-52522384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037F68-4EFD-4FC7-8D93-9D1EF8C3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EF4132-B790-4AEC-9BA9-0CB74DC1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7CA3AA-9005-4CCB-9168-E15138DD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45E7A1-BB86-4A13-A4E4-3F9F44BE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B650FF-B411-4F47-957A-EED74C7E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1EF497-EE4A-48F6-90C6-4AA94E18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14028D-123B-41D8-9D1A-95D34F41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9EFC-624A-43A1-ACEB-FA7934C6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6C895D-5E6C-4614-B741-CB0BC414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D07EBB-979C-4F95-866E-28FB4E99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505F60-369E-4729-B9EA-21D17258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1D963B-1CEB-49B8-B8D8-4C0AA3C6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32BA2D-9A3F-47DF-AC3E-4159C3F0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34F934-9DC4-4594-AD50-6D8F5853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378819-FA8D-47AA-B5FA-3EC0F07D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F8EF7B-D63B-44AC-BB1E-9975FCB1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A113B2-FFBE-48AA-9672-10CE7BBE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E8555A-A57D-4071-BB24-F435D15A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6735-6EA7-427E-8383-E5259F44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658C4F-10D4-43C7-A168-F7C7159F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609A1E-06D7-4E5D-85DD-7BDE5629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EC21AD-826C-4578-903E-9119C594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18BFD0-A945-48F2-B992-3D05E8E6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FBA124-0B59-4752-8A44-DB9EE181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F5D90A-6889-448F-91F4-71D77D2E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843F85-C950-4849-9532-050D0F5F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ECD9DD-27D9-4BEA-83F3-2FAA8045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E13DD0-2A2D-4B63-82C2-70D7A784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F39B91-E3AC-4F75-BAE2-A4A4BD71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94DE-A410-42BD-A3D3-A936F002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0B06A1-2A31-4CBC-B514-716B925B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F69E7F-CAB6-4A2A-AEAF-5FD865ED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9E0851-538F-4A54-8490-7FC84693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D63844-C5FA-42FE-BD19-211F62EB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D041AE-9422-4B52-9499-F5C84152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960172-4CB4-4E8C-A671-54E1F511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8B20FE-24E8-494C-9661-387C4A2C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4B979E-2593-415E-9844-78124C3B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37DC76-AE95-45C5-8321-71F9FB55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38C0ED-BDF0-4169-99BA-B98E249E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D07B-828A-41F9-9054-EF885C8F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A5FDC4-9B10-40BC-960A-F189D208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DA99EE-6299-443E-9723-E0A80CED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517927-1B3C-4F1A-B0E0-3C899BFE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274947-3B34-48E1-AC67-56981876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42FCCB-39CC-44D1-8043-451C165D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CAB04F-37B1-4605-8CF2-E8E6D425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AE0CD4-5F5D-4523-AA3A-FECBDB43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95ACBB-4290-498D-9A1D-7767800D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595101-523D-429D-816B-A4060EE9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DDAC30-A69A-4D63-BA9A-630FA54C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941B-79E3-4335-A33D-41DE2D4A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D691-87B8-4605-AE34-1F5A8E29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0A94D6-A4FF-499F-9A96-57D21398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A3AD2D-4832-4545-A3D0-534BF820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EC77AD-86C0-4160-A2BA-71C2CF8A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E9E5E6-624C-4145-B518-8D0AC24E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4186BB-2D87-4117-A0B2-D5091CB2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497B29-C6DB-45AB-ACBB-CE1EBF0E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98CFE8-6148-4684-88FF-665B7480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1FC0CF-B573-4610-8A12-1D84E4BD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DBF6FC-95BA-4099-94D6-ECBAFEB1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CBB500-6959-45D2-AA89-9406984F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74C1-A663-4D00-A912-45F0D14E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65C342-5667-4F6B-9C0C-2B826C28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A3ADA8-1C81-4EAA-9619-BD8DE0A8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46DBAD-74B9-42F8-9AA4-508CFA81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4AE283-8483-4636-B391-FA5B93F3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27AC52-6DB8-46CB-8A50-4813AF59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AB6543-E744-4FD0-AA69-21F860C4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0416E4-4D97-4147-A100-020A7A3D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FB4D7B-6F32-436D-B268-DBE5EB19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C263CE-483A-4465-9C3E-A6253B26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7F9C66-E607-4ABC-B9E0-DED4EEDD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68B6-106F-4989-A093-B86A0467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040EBC-48DD-424B-A0CB-066498AB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DA06D5-E050-490F-949D-3710D211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32E62A-A680-408B-B5E4-030515EE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33C3DE-56ED-4DE7-91DE-7A461485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EC94E9-DAFF-46DC-8845-161F49FA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D49C50-3026-4A61-85B7-F9790251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7424D4-67B4-4E1B-BB34-0069E2A1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D7CA66-97BC-4FF0-AD3D-CDAA9D19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4AED44-574C-481C-86E5-3DA8EB6C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974F12-937E-4AF0-8F81-FC1BAB21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7E54-C24D-44BC-9214-427EA6F7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8AE787-1131-46A3-9082-4E950438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F90712-F49E-4448-8348-FE4945FC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B0F8A3-D2D3-4499-9EE3-B1BF12AF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AD8E23-D9B1-4130-B5B7-5C10E5A6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39876E-A704-4F10-A2F2-8E669ECC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30B468-910E-4169-992A-D8F24A44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77C9BD-9F20-4724-93FF-CE51BB5C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AFF47A-B9CE-4FB0-B4A4-2B150A63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AEBFF8-554B-4C4E-A528-2E3D3239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FFB818-387D-4D29-965B-020ABB53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A494-F656-41DE-BE54-14B150E2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886277-E06B-4BCB-A8DB-F0BCBF3E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F8311B-7ADA-46E6-991B-88B9A528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768197-7748-4AB9-86DA-4D31B39B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C64C03-6477-4135-995B-AAC17874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D8D6B3-C4B6-4A4B-94BF-E0A430FD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B0D4BD-0688-44E1-BDCA-675D1409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212148-221C-49E6-B6DA-A968353B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9AEE5F-DD57-4E6A-9CCF-A9877695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F7DDBF-24FD-4C41-83E2-D4000169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C9A4BA-F578-485F-BF47-20C9A7DA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A8979-501F-4267-AF61-F8DD763A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9F9DEF-E6A8-4820-8BF1-F0C2A38E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504517-C4E8-42B5-B364-23385CFC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E9810E-2C4C-43A1-BBD7-0A6FC1D1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D26363-D607-46BB-99A7-310D942E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F59F6D-3670-4B56-A396-909E22EE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2305DC-1E7A-47A3-95B8-5A95D02A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DE4048-2A1A-43B1-97E6-BE945AFD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953FC3-606D-4970-BC9B-E91A3383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A135AD-C97C-4464-9D89-E1AB7F5A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061A3A-1B64-4140-B91C-687D85A3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D2A3F-BAAB-47FA-A502-76BCAFBF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5A0F06-247B-4001-9B68-5144C573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8F440D-82C8-4D95-9FB6-8E807235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E21FF3-F7D0-4298-B605-91F89C96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534466-D422-466F-AE5E-7C31FE23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E71BA7-A4F7-4D05-B74C-2F86344B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45E8E9-A877-4994-BD90-CE295A1B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EEB111-F208-49C5-B47E-759536BA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98BB9B-4A53-4115-A924-52240681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15F1E2-5BC8-41EF-B391-D6087DB0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F91BDD-E658-45C5-A0AE-BBD92C0F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7F24B-195C-4466-AAB7-B7618435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FE5D4B-25C3-41D2-B6D8-EB2201EA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95802A-7A54-4A76-B003-3016BBC2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1EBF73-3EDE-467D-AD30-B6303332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3A17B3-C24E-4CFA-BEA0-455B2F4D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F0CC12-E4CE-4D2D-834A-CCC60B07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0150B0-5820-4D7A-A2D9-3DB28FE7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E6183F-AD25-4CD1-A0F0-A1472FC4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37733E-D882-45EA-98F2-F761EE2D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25F146-8C6E-4F9F-8C2E-8E909FDB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225084-A445-4F9A-806F-C92836D2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67DF3-EA6F-499F-BF61-080E3421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8F3277-849D-4C82-A77C-E5B9C038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05D965-0C7B-4B4C-8DC4-755A0C66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27D270-CCE9-498D-BAA3-9449C564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0A1291-8FAC-4B19-BC88-6C40245B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E334F1-5001-48E4-B3C2-B65105B2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D30E37-AB37-4672-8BAB-62F913E1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BF6B12-3BC7-44EE-A7DC-C7F703AB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EE5FA9-8BFD-4EF9-A505-52A5DC70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29A326-0FCF-4295-BF84-1DEFCA12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8D14C1-6F78-4CBB-836B-575FEF6D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FCD75-3DE7-4121-867D-F81F70FB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C18DAF-62FC-4207-BCAD-BA594F30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89AEC3-7BA2-4CD6-9CF1-64B99B20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CDDE06-AA48-4647-B83D-4CDECA95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861FFF-E5DE-4E93-A619-C24DA820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415146-4F5B-43EE-A928-0AF3C11A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39A3B3-B9B1-4A67-BE2D-A5DC4878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578AC7-2001-4B6F-A20D-5325D5AF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21D82B-D4F2-4B2F-B89B-27419C03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80852D-D5BD-4863-A61C-C41ADDD3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BA5840-8168-451F-A382-1128A958D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69DC-72A4-4DFB-9891-FA85EE79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D70FB-589D-4C12-AB06-13CBF783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78288F-EB43-4374-8A2C-AF4372D2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35AF3-75C4-4A96-A76C-21902DA2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DDD78-537A-42EA-8613-399DE012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F421E-1F5F-4045-B530-DEF33A00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AADC0-0F1E-4E17-81BF-6532EEC9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B69B9-4ACD-419C-B19C-02A8600A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C534A-BE15-4CCB-AEF2-44E1333D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EA7F4-E61C-4713-A619-99FFFBBC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33956-545C-472F-AD9A-32F1AEC3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A0DD7-FC01-4210-99B8-931F4A7D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90AE-EC82-48C4-9C9B-B12B6469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64F83-BE8E-4514-8E88-237F7747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6F280-B287-4CB4-8980-4B2ACA2E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00305-2AFD-4494-9D21-C24785CF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97F70-BB04-4DD7-8D5F-E42AA08D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24FCF-F1CE-44B0-866C-6DAB4BA7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90975-D35A-417C-B020-A6215F07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E7A0C-6E08-4776-8015-A609375A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48CF1-6629-4AB1-B4EA-6ED2DCB9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46B6C-3F89-4CC5-829C-506554C9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5D48D-53A6-4E43-8544-FA3D1226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159D-A85A-4764-AE1E-24CCEF99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522A9-C8E4-4148-9F50-1F8D3020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A5E53-41A4-4301-A042-6785F6F3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CD3CB-9103-4C07-A063-8DCFEA57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9FBA4-3B50-4D09-BC4C-B7B8AF23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C9573-B087-4318-855F-279E719B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A4273-73B2-4D8B-82ED-8242A6F9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1D0D0-D380-430F-A0B8-0958C43D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CF25E-D9B1-4D7A-A222-39F46A54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CE749-8347-4C0F-8C9A-D8EDAA50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BE20C-4348-4EF8-BAAB-B06319B6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8382-4042-4A1E-9434-D777BB08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414F5-83B6-40A2-BEB5-6F0C4023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59139-57AA-4E25-971B-53B83C87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6EA58-7585-43C9-81A1-311CA601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441BA-EB53-4F71-B49C-7FF24B47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E4702-8138-416B-9E6C-9DD7C68C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770E1-B66D-47E1-A470-D578E62C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3829B-CDFE-41AE-B913-5F670C63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BF4C0-B839-4499-B838-CC43997C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D54BA-DF63-4C01-8954-08997BCA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3D3AD-74C6-449E-A37E-85D3143C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89AF-1214-403F-9162-CBB09F79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EC21E-E786-4388-9D9D-8380176E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5F65D-0E0F-403B-B062-43C1C352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07C3A-BFED-480A-88D4-46C25845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01DD4-0ED7-45C7-B922-151A94C5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543D0-4431-474B-9E5D-49486A08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D0BC7-A448-4D60-9D74-ADBA4F87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F05D7-CE0E-4660-BF93-9EE15302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9AD81-16E6-4829-AA58-AB8B1E55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E83AA-D915-4E33-BD0B-8135A9EE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2882F-9241-4470-95BB-4BB33163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5527-3438-478D-9550-1F6EDF0E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D4747-33C9-4323-B424-BF9B5504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6F5DB-6C8E-48A9-8BAC-038A407C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4DB9C-C855-41F8-9C50-936D0FE1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C1837-9D17-49D7-B76E-4BDE2C41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DED3B-C330-41E3-AB29-E22C1241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87FF1-77CD-4787-8709-434865CC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C5534-F841-4225-A2C4-E922B325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07683-4DDC-4A46-AD39-E7C93B14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F467A-58CB-413D-A339-244CC73F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FD2E3-79D4-4DE4-B20F-BCA6FCC0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093E-A184-4480-8B12-45EAC667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3DE0B-4693-4656-95C4-ADB1DF0D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2B6EB-4D11-40A5-A4B6-8A2548CC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38B1B-846A-485C-9FCB-4630607D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634A6-B128-411A-90D1-D16C11BC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62150-8413-4F1A-89BD-54882BB9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22FA3-E3DB-4D42-A509-78F0E657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E1813-7562-412E-AFFE-AF10694E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63CBC-E4E4-4097-8186-C15F3DE9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35E0C-DAC7-4A2A-AA5B-FF3C983F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79908-A986-484A-AD6E-BC08C053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A1CA-7350-4F1D-B403-23E20468BF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C56C-9D12-475E-853B-4B25A7882C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5F0B-A9A5-481D-9FD7-86AA0BB27E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B186-EC62-4CEF-A27C-914760F2DD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C55B-941C-48F4-A3B4-22A789E5D4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50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4F1D-5A77-4EF2-AFD8-5AA2EA1BA075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07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3385-DD4D-4185-A749-6D34B9E2BF2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64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BE37-F09F-45A6-9851-CDCB9F2372D7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2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1726-C1E3-4EAC-8A7F-B120EE7BE071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7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1E85-CE8D-40BF-A1EA-CEFCED8F6B5C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35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19AD-8C7F-4AA0-BC61-04DF92072C1A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2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559F-B696-458E-B8A1-9545D9117C7C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92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2C00-662A-4266-8694-EF0AE2C78B65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49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955B-CD0D-4EBE-BCE4-0F8DA192A3CA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5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06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11F2-CB27-431B-BF2A-C820E30A2E3D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63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C803-E086-422F-B110-D7191978909B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9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20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CFE2-341D-4274-A483-6B31FE87A28A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77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 type="dt" idx="7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1D95-F54D-404E-9F03-66B34B3A61B3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55C0-5885-4DE0-885E-9FCB5ED142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0845-7291-4C85-BF1D-773168EF33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C822-EB8F-411D-82F5-D9C62E0958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63F9-D6B8-4302-BE14-6428FE0CA8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D920-7043-4594-BEFA-12CD9E5213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44F0-D60E-4811-9381-3BACC62A80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8146-5662-4D28-8831-DCAC4A763E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Picture 2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701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6" name="Picture 4" descr="Картинка 2 из 10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76720" y="304920"/>
            <a:ext cx="1733400" cy="1179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8" name=""/>
          <p:cNvSpPr txBox="1"/>
          <p:nvPr/>
        </p:nvSpPr>
        <p:spPr>
          <a:xfrm>
            <a:off x="611280" y="5445000"/>
            <a:ext cx="7921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ыла распространена и голубиная почта. Почтовых голубей приучали разносить письма из города в город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9" name="Picture 4" descr="4504[1]"/>
          <p:cNvPicPr/>
          <p:nvPr/>
        </p:nvPicPr>
        <p:blipFill>
          <a:blip r:embed="rId1"/>
          <a:stretch/>
        </p:blipFill>
        <p:spPr>
          <a:xfrm>
            <a:off x="755640" y="189000"/>
            <a:ext cx="7632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76720" y="304920"/>
            <a:ext cx="1733400" cy="1179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611280" y="5445000"/>
            <a:ext cx="7921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2" name="Picture 4" descr="Памятники почтовым голубям во Франици в Англии - Картинка 13283/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TextBox 1"/>
          <p:cNvSpPr/>
          <p:nvPr/>
        </p:nvSpPr>
        <p:spPr>
          <a:xfrm>
            <a:off x="0" y="620640"/>
            <a:ext cx="8101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ew.nnov.org/new/1511028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utotravel.ru/phalbum.php/90185/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viktor-tsoy.com/gallery/50-post_mark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ommons.wikimedia.org/wiki/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go.mail.ru/search_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ulture.natm.ru/gashenie-pervogo-dnya-yubileynoy-marki-vypuschennoy-special-no-k-1150-letiyu-velikogo-novgorod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tnaa.mylivepage.ru/image/3502/190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ntuit.ru/department/history/ithistory/3/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03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резентацию выполнила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учитель начальных классов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МКОУ Починковская ООШ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Арасланова Г.Г.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102200" cy="749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ловарь С.Ожегов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179280" y="1628640"/>
            <a:ext cx="878544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«Письмо – написанный текст, посылаемый кому – нибудь для сообщения чего – нибудь»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6" name="Picture 4" descr="Einbrief"/>
          <p:cNvPicPr/>
          <p:nvPr/>
        </p:nvPicPr>
        <p:blipFill>
          <a:blip r:embed="rId1"/>
          <a:stretch/>
        </p:blipFill>
        <p:spPr>
          <a:xfrm>
            <a:off x="1692360" y="3429000"/>
            <a:ext cx="5067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Picture 2" descr=""/>
          <p:cNvPicPr/>
          <p:nvPr/>
        </p:nvPicPr>
        <p:blipFill>
          <a:blip r:embed="rId1"/>
          <a:stretch/>
        </p:blipFill>
        <p:spPr>
          <a:xfrm>
            <a:off x="3924360" y="1916280"/>
            <a:ext cx="5219640" cy="4422600"/>
          </a:xfrm>
          <a:prstGeom prst="rect">
            <a:avLst/>
          </a:prstGeom>
          <a:ln w="0">
            <a:noFill/>
          </a:ln>
        </p:spPr>
      </p:pic>
      <p:pic>
        <p:nvPicPr>
          <p:cNvPr id="1238" name="Picture 3" descr=""/>
          <p:cNvPicPr/>
          <p:nvPr/>
        </p:nvPicPr>
        <p:blipFill>
          <a:blip r:embed="rId2"/>
          <a:stretch/>
        </p:blipFill>
        <p:spPr>
          <a:xfrm>
            <a:off x="422280" y="620640"/>
            <a:ext cx="389556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9" name="Picture 2" descr="C:\Documents and Settings\Supervisor.NONE\Рабочий стол\квартира\письмо.jpg"/>
          <p:cNvPicPr/>
          <p:nvPr/>
        </p:nvPicPr>
        <p:blipFill>
          <a:blip r:embed="rId1"/>
          <a:stretch/>
        </p:blipFill>
        <p:spPr>
          <a:xfrm>
            <a:off x="357120" y="1071720"/>
            <a:ext cx="8458200" cy="5357520"/>
          </a:xfrm>
          <a:prstGeom prst="rect">
            <a:avLst/>
          </a:prstGeom>
          <a:ln w="0">
            <a:noFill/>
          </a:ln>
        </p:spPr>
      </p:pic>
      <p:sp>
        <p:nvSpPr>
          <p:cNvPr id="1240" name="TextBox 2"/>
          <p:cNvSpPr/>
          <p:nvPr/>
        </p:nvSpPr>
        <p:spPr>
          <a:xfrm>
            <a:off x="571680" y="285840"/>
            <a:ext cx="79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Этапы путешествия пис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1" name="Рисунок 4" descr="https://ds05.infourok.ru/uploads/ex/0c32/00024299-ce14bb12/img8.jpg"/>
          <p:cNvPicPr/>
          <p:nvPr/>
        </p:nvPicPr>
        <p:blipFill>
          <a:blip r:embed="rId2"/>
          <a:srcRect l="80157" t="70971" r="6646" b="8866"/>
          <a:stretch/>
        </p:blipFill>
        <p:spPr>
          <a:xfrm>
            <a:off x="4000680" y="1357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42" name="Рисунок 5" descr="https://ds05.infourok.ru/uploads/ex/0c32/00024299-ce14bb12/img8.jpg"/>
          <p:cNvPicPr/>
          <p:nvPr/>
        </p:nvPicPr>
        <p:blipFill>
          <a:blip r:embed="rId3"/>
          <a:srcRect l="80157" t="29270" r="3421" b="46089"/>
          <a:stretch/>
        </p:blipFill>
        <p:spPr>
          <a:xfrm>
            <a:off x="5429160" y="1357200"/>
            <a:ext cx="1214640" cy="1143000"/>
          </a:xfrm>
          <a:prstGeom prst="rect">
            <a:avLst/>
          </a:prstGeom>
          <a:ln w="0">
            <a:noFill/>
          </a:ln>
        </p:spPr>
      </p:pic>
      <p:pic>
        <p:nvPicPr>
          <p:cNvPr id="1243" name="Рисунок 6" descr="https://ds05.infourok.ru/uploads/ex/0c32/00024299-ce14bb12/img8.jpg"/>
          <p:cNvPicPr/>
          <p:nvPr/>
        </p:nvPicPr>
        <p:blipFill>
          <a:blip r:embed="rId4"/>
          <a:srcRect l="12323" t="34887" r="73996" b="40877"/>
          <a:stretch/>
        </p:blipFill>
        <p:spPr>
          <a:xfrm>
            <a:off x="6429240" y="2643120"/>
            <a:ext cx="1214640" cy="1214640"/>
          </a:xfrm>
          <a:prstGeom prst="rect">
            <a:avLst/>
          </a:prstGeom>
          <a:ln w="0">
            <a:noFill/>
          </a:ln>
        </p:spPr>
      </p:pic>
      <p:pic>
        <p:nvPicPr>
          <p:cNvPr id="1244" name="Рисунок 7" descr="https://ds05.infourok.ru/uploads/ex/0c32/00024299-ce14bb12/img8.jpg"/>
          <p:cNvPicPr/>
          <p:nvPr/>
        </p:nvPicPr>
        <p:blipFill>
          <a:blip r:embed="rId5"/>
          <a:srcRect l="7815" t="66478" r="77362" b="9108"/>
          <a:stretch/>
        </p:blipFill>
        <p:spPr>
          <a:xfrm>
            <a:off x="4643280" y="3000240"/>
            <a:ext cx="1214640" cy="1285920"/>
          </a:xfrm>
          <a:prstGeom prst="rect">
            <a:avLst/>
          </a:prstGeom>
          <a:ln w="0">
            <a:noFill/>
          </a:ln>
        </p:spPr>
      </p:pic>
      <p:pic>
        <p:nvPicPr>
          <p:cNvPr id="1245" name="Рисунок 8" descr="https://ds05.infourok.ru/uploads/ex/0c32/00024299-ce14bb12/img8.jpg"/>
          <p:cNvPicPr/>
          <p:nvPr/>
        </p:nvPicPr>
        <p:blipFill>
          <a:blip r:embed="rId6"/>
          <a:srcRect l="61417" t="41669" r="22657" b="31979"/>
          <a:stretch/>
        </p:blipFill>
        <p:spPr>
          <a:xfrm>
            <a:off x="3000240" y="342900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246" name="Рисунок 9" descr="https://ds05.infourok.ru/uploads/ex/0c32/00024299-ce14bb12/img8.jpg"/>
          <p:cNvPicPr/>
          <p:nvPr/>
        </p:nvPicPr>
        <p:blipFill>
          <a:blip r:embed="rId7"/>
          <a:srcRect l="35087" t="66478" r="50417" b="8919"/>
          <a:stretch/>
        </p:blipFill>
        <p:spPr>
          <a:xfrm>
            <a:off x="1500120" y="464328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1247" name="Рисунок 10" descr="https://ds05.infourok.ru/uploads/ex/0c32/00024299-ce14bb12/img8.jpg"/>
          <p:cNvPicPr/>
          <p:nvPr/>
        </p:nvPicPr>
        <p:blipFill>
          <a:blip r:embed="rId8"/>
          <a:srcRect l="35283" t="26745" r="49189" b="45722"/>
          <a:stretch/>
        </p:blipFill>
        <p:spPr>
          <a:xfrm>
            <a:off x="3714840" y="4929120"/>
            <a:ext cx="11430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f2f1"/>
            </a:gs>
            <a:gs pos="100000">
              <a:srgbClr val="ddddd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6"/>
          <p:cNvSpPr/>
          <p:nvPr/>
        </p:nvSpPr>
        <p:spPr>
          <a:xfrm>
            <a:off x="395280" y="765000"/>
            <a:ext cx="4249800" cy="2592720"/>
          </a:xfrm>
          <a:prstGeom prst="rect">
            <a:avLst/>
          </a:prstGeom>
          <a:solidFill>
            <a:srgbClr val="3399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9" name="Picture 4" descr="белый конверт"/>
          <p:cNvPicPr/>
          <p:nvPr/>
        </p:nvPicPr>
        <p:blipFill>
          <a:blip r:embed="rId1"/>
          <a:stretch/>
        </p:blipFill>
        <p:spPr>
          <a:xfrm>
            <a:off x="260280" y="665280"/>
            <a:ext cx="4384800" cy="2692440"/>
          </a:xfrm>
          <a:prstGeom prst="rect">
            <a:avLst/>
          </a:prstGeom>
          <a:ln w="0">
            <a:noFill/>
          </a:ln>
        </p:spPr>
      </p:pic>
      <p:sp>
        <p:nvSpPr>
          <p:cNvPr id="1250" name="Rectangle 7"/>
          <p:cNvSpPr/>
          <p:nvPr/>
        </p:nvSpPr>
        <p:spPr>
          <a:xfrm>
            <a:off x="4427640" y="3789360"/>
            <a:ext cx="4465440" cy="2736720"/>
          </a:xfrm>
          <a:prstGeom prst="rect">
            <a:avLst/>
          </a:prstGeom>
          <a:solidFill>
            <a:srgbClr val="3399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Text Box 8"/>
          <p:cNvSpPr/>
          <p:nvPr/>
        </p:nvSpPr>
        <p:spPr>
          <a:xfrm>
            <a:off x="2287440" y="2232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вер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р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9"/>
          <p:cNvSpPr/>
          <p:nvPr/>
        </p:nvSpPr>
        <p:spPr>
          <a:xfrm>
            <a:off x="1477800" y="414972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3" name="Picture 10" descr="calligraphy"/>
          <p:cNvPicPr/>
          <p:nvPr/>
        </p:nvPicPr>
        <p:blipFill>
          <a:blip r:embed="rId2"/>
          <a:stretch/>
        </p:blipFill>
        <p:spPr>
          <a:xfrm>
            <a:off x="3564000" y="220500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254" name="Picture 2" descr=""/>
          <p:cNvPicPr/>
          <p:nvPr/>
        </p:nvPicPr>
        <p:blipFill>
          <a:blip r:embed="rId3"/>
          <a:stretch/>
        </p:blipFill>
        <p:spPr>
          <a:xfrm rot="1484400">
            <a:off x="2906640" y="2576520"/>
            <a:ext cx="6481800" cy="5162400"/>
          </a:xfrm>
          <a:prstGeom prst="rect">
            <a:avLst/>
          </a:prstGeom>
          <a:ln w="0">
            <a:noFill/>
          </a:ln>
        </p:spPr>
      </p:pic>
      <p:pic>
        <p:nvPicPr>
          <p:cNvPr id="1255" name="Рисунок 1" descr=""/>
          <p:cNvPicPr/>
          <p:nvPr/>
        </p:nvPicPr>
        <p:blipFill>
          <a:blip r:embed="rId4"/>
          <a:stretch/>
        </p:blipFill>
        <p:spPr>
          <a:xfrm>
            <a:off x="5651640" y="720720"/>
            <a:ext cx="33130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6" name="Picture 3" descr=""/>
          <p:cNvPicPr/>
          <p:nvPr/>
        </p:nvPicPr>
        <p:blipFill>
          <a:blip r:embed="rId1"/>
          <a:stretch/>
        </p:blipFill>
        <p:spPr>
          <a:xfrm>
            <a:off x="179280" y="216000"/>
            <a:ext cx="2786040" cy="6426000"/>
          </a:xfrm>
          <a:prstGeom prst="rect">
            <a:avLst/>
          </a:prstGeom>
          <a:ln w="0">
            <a:noFill/>
          </a:ln>
        </p:spPr>
      </p:pic>
      <p:pic>
        <p:nvPicPr>
          <p:cNvPr id="1257" name="Picture 4" descr=""/>
          <p:cNvPicPr/>
          <p:nvPr/>
        </p:nvPicPr>
        <p:blipFill>
          <a:blip r:embed="rId2"/>
          <a:stretch/>
        </p:blipFill>
        <p:spPr>
          <a:xfrm>
            <a:off x="3419640" y="192240"/>
            <a:ext cx="4897440" cy="3236760"/>
          </a:xfrm>
          <a:prstGeom prst="rect">
            <a:avLst/>
          </a:prstGeom>
          <a:ln w="0">
            <a:noFill/>
          </a:ln>
        </p:spPr>
      </p:pic>
      <p:pic>
        <p:nvPicPr>
          <p:cNvPr id="1258" name="Picture 5" descr=""/>
          <p:cNvPicPr/>
          <p:nvPr/>
        </p:nvPicPr>
        <p:blipFill>
          <a:blip r:embed="rId3"/>
          <a:stretch/>
        </p:blipFill>
        <p:spPr>
          <a:xfrm>
            <a:off x="3889440" y="3645000"/>
            <a:ext cx="395748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Зима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1259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1259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1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1" name="Объект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321440" cy="6480000"/>
          </a:xfrm>
          <a:prstGeom prst="rect">
            <a:avLst/>
          </a:prstGeom>
          <a:ln w="28440">
            <a:solidFill>
              <a:srgbClr val="080808"/>
            </a:solidFill>
            <a:miter/>
          </a:ln>
        </p:spPr>
      </p:pic>
      <p:pic>
        <p:nvPicPr>
          <p:cNvPr id="1262" name="Объект 6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4249800" cy="6480000"/>
          </a:xfrm>
          <a:prstGeom prst="rect">
            <a:avLst/>
          </a:prstGeom>
          <a:ln w="28440">
            <a:solidFill>
              <a:srgbClr val="08080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826560" y="5373360"/>
            <a:ext cx="778356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ля перевозки больших корреспонденций использовали почтовые карет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5" name="Picture 4" descr="rm_pcoach[1]"/>
          <p:cNvPicPr/>
          <p:nvPr/>
        </p:nvPicPr>
        <p:blipFill>
          <a:blip r:embed="rId1"/>
          <a:stretch/>
        </p:blipFill>
        <p:spPr>
          <a:xfrm>
            <a:off x="766800" y="376200"/>
            <a:ext cx="763272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4T14:10:17Z</dcterms:created>
  <dc:creator>asusf8ws</dc:creator>
  <dc:description/>
  <dc:language>en-US</dc:language>
  <cp:lastModifiedBy>Admin</cp:lastModifiedBy>
  <dcterms:modified xsi:type="dcterms:W3CDTF">2022-01-17T18:44:16Z</dcterms:modified>
  <cp:revision>60</cp:revision>
  <dc:subject/>
  <dc:title>Презентация PowerPoint</dc:title>
</cp:coreProperties>
</file>